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D873-52A7-4483-834C-4C09BC31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FCB-B137-4863-9197-01361411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B1F-709E-4FEF-8DAF-D30FBB25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A07-6280-4A79-B690-EE368510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B7D-B20F-4D0A-BDB0-FEBF397E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CBD-8DA8-46DE-992E-4DBFEDE1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5F7-FAB7-4DF9-86E4-DA96DADD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55D-5F44-4855-B778-B6D7E0BD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953-BDD8-4BD8-A5F5-27595A82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E26-1FC1-48C2-B505-60EA52E0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A6E-FDE0-4EF4-92C8-0E50D7AD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253-FF37-446E-AB60-B16159E0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3E93-3DD9-47B1-A225-5FCDFA99CF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10.6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pendent Events and Conditional Probability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Q: How do we find conditional probabilities and the probability of dependent ev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one roll of a number cube, let A be the event “even” and B be the event “2”. Find each of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 P(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P(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P(A and 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 P(A or 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  P(B|A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. P(A|B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 P(A) = 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P(B) = 1/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P(A and B) = 1/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 P(A or B) = 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  P(B|A) = 1/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. P(A|B)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668 – Lesson 10.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s 9-23, 32-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endent Eve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0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pendent events – the probability of a second event occurring is affected by what happens in the first even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Key Words: Without Replacemen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endent Eve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0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rd is drawn from a deck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 replac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 Then a second card is draw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endent Eve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ag contains 8 red marbles, 9 yellow marbles, and 5 blue marbles. Two consecut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re made without replacement. Find each of the following prob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4572000"/>
            <a:ext cx="8540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 A red first and a red seco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A yellow first and a blue seco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A blue first and a red seco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56/46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45/46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40/46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endent Eve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al probability - the probability of a second event occurring, given that you already know the first res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nditional probability of event B, given event A is denoted by P(B|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be foun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1676520" y="4876920"/>
          <a:ext cx="59436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876920"/>
                    <a:ext cx="5943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ational Honor Society at a local high school has 20 members and the FBLA has 18 members.  Twelve members of the FBLA are also in the honor society.  Find the probability that a randomly selected student is a member of FBLA if it is known that he is a member of the honor 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57200" y="6019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20 = 3/5 = 6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number cubes are rolled, and the first cube shows a 5.  Find the probability of each ev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 A sum of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 Two odd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A sum of 7 or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1/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1/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1/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3:26:54Z</dcterms:created>
  <dc:creator>nspano</dc:creator>
  <dc:description/>
  <dc:language>en-US</dc:language>
  <cp:lastModifiedBy>Student</cp:lastModifiedBy>
  <dcterms:modified xsi:type="dcterms:W3CDTF">2012-04-26T18:19:48Z</dcterms:modified>
  <cp:revision>16</cp:revision>
  <dc:subject/>
  <dc:title>Section 10.6</dc:title>
</cp:coreProperties>
</file>